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E0D-1257-4B59-A0D3-55D8EB1A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5DE-9075-414A-A12C-CF20C9E5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539-DEB7-4AB5-AB88-F48F2566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E73-4B9C-4397-A022-B9ABCABC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A48-C205-4747-ABA4-4BA39C9C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FEF-3670-47B2-B9D7-5048696A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6D1-F380-4CC5-AE04-A8709F85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669-B2AE-4C7C-B0DE-4327AF0C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0B9-D768-4289-8E11-F2F65A49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814-8A54-4AF5-8B49-5DAC6DE4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E35-E01A-41CB-98A2-EBFEE6E0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B01-1ECA-4A6C-9AF4-D198CDCB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ABC7-AB1C-46FB-A359-3B4A465E2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8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J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2548080" y="3147840"/>
            <a:ext cx="404784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595440" y="1819440"/>
            <a:ext cx="7951680" cy="321912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7769160" y="3486240"/>
            <a:ext cx="4968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609480" y="2004840"/>
            <a:ext cx="7925040" cy="284832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7736040" y="2529000"/>
            <a:ext cx="49824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595440" y="1123920"/>
            <a:ext cx="7951680" cy="4610160"/>
          </a:xfrm>
          <a:prstGeom prst="rect">
            <a:avLst/>
          </a:prstGeom>
          <a:ln w="0">
            <a:noFill/>
          </a:ln>
        </p:spPr>
      </p:pic>
      <p:sp>
        <p:nvSpPr>
          <p:cNvPr id="48" name="矩形 1"/>
          <p:cNvSpPr/>
          <p:nvPr/>
        </p:nvSpPr>
        <p:spPr>
          <a:xfrm>
            <a:off x="7736040" y="1655640"/>
            <a:ext cx="4982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585720" y="1085760"/>
            <a:ext cx="797076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7678800" y="2198520"/>
            <a:ext cx="4982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"/>
          <p:cNvSpPr/>
          <p:nvPr/>
        </p:nvSpPr>
        <p:spPr>
          <a:xfrm>
            <a:off x="7678800" y="4265640"/>
            <a:ext cx="49824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581040" y="1014480"/>
            <a:ext cx="7981920" cy="4829040"/>
          </a:xfrm>
          <a:prstGeom prst="rect">
            <a:avLst/>
          </a:prstGeom>
          <a:ln w="0">
            <a:noFill/>
          </a:ln>
        </p:spPr>
      </p:pic>
      <p:sp>
        <p:nvSpPr>
          <p:cNvPr id="53" name="矩形 1"/>
          <p:cNvSpPr/>
          <p:nvPr/>
        </p:nvSpPr>
        <p:spPr>
          <a:xfrm>
            <a:off x="942840" y="2538360"/>
            <a:ext cx="35784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2" descr=""/>
          <p:cNvPicPr/>
          <p:nvPr/>
        </p:nvPicPr>
        <p:blipFill>
          <a:blip r:embed="rId2"/>
          <a:stretch/>
        </p:blipFill>
        <p:spPr>
          <a:xfrm>
            <a:off x="6489720" y="2538360"/>
            <a:ext cx="2000160" cy="2038320"/>
          </a:xfrm>
          <a:prstGeom prst="rect">
            <a:avLst/>
          </a:prstGeom>
          <a:ln w="0">
            <a:noFill/>
          </a:ln>
        </p:spPr>
      </p:pic>
      <p:sp>
        <p:nvSpPr>
          <p:cNvPr id="55" name="矩形 3"/>
          <p:cNvSpPr/>
          <p:nvPr/>
        </p:nvSpPr>
        <p:spPr>
          <a:xfrm>
            <a:off x="1409760" y="3038400"/>
            <a:ext cx="4203720" cy="9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1085760" y="3956040"/>
            <a:ext cx="5127840" cy="13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1271520" y="5411880"/>
            <a:ext cx="35798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490680" y="1090440"/>
            <a:ext cx="8161200" cy="4677120"/>
          </a:xfrm>
          <a:prstGeom prst="rect">
            <a:avLst/>
          </a:prstGeom>
          <a:ln w="0">
            <a:noFill/>
          </a:ln>
        </p:spPr>
      </p:pic>
      <p:sp>
        <p:nvSpPr>
          <p:cNvPr id="59" name="矩形 1"/>
          <p:cNvSpPr/>
          <p:nvPr/>
        </p:nvSpPr>
        <p:spPr>
          <a:xfrm>
            <a:off x="7694640" y="2149560"/>
            <a:ext cx="5634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7647120" y="4246560"/>
            <a:ext cx="5634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274680" y="712800"/>
            <a:ext cx="7961400" cy="49626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" descr=""/>
          <p:cNvPicPr/>
          <p:nvPr/>
        </p:nvPicPr>
        <p:blipFill>
          <a:blip r:embed="rId2"/>
          <a:stretch/>
        </p:blipFill>
        <p:spPr>
          <a:xfrm>
            <a:off x="774720" y="5759280"/>
            <a:ext cx="1514520" cy="3812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"/>
          <p:cNvPicPr/>
          <p:nvPr/>
        </p:nvPicPr>
        <p:blipFill>
          <a:blip r:embed="rId3"/>
          <a:stretch/>
        </p:blipFill>
        <p:spPr>
          <a:xfrm>
            <a:off x="6019920" y="3789360"/>
            <a:ext cx="2665440" cy="188604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1251000" y="1695600"/>
            <a:ext cx="9190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"/>
          <p:cNvSpPr/>
          <p:nvPr/>
        </p:nvSpPr>
        <p:spPr>
          <a:xfrm>
            <a:off x="5456160" y="1695600"/>
            <a:ext cx="5637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774720" y="5759280"/>
            <a:ext cx="1665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585720" y="909720"/>
            <a:ext cx="7970760" cy="5038560"/>
          </a:xfrm>
          <a:prstGeom prst="rect">
            <a:avLst/>
          </a:prstGeom>
          <a:ln w="0">
            <a:noFill/>
          </a:ln>
        </p:spPr>
      </p:pic>
      <p:sp>
        <p:nvSpPr>
          <p:cNvPr id="68" name="矩形 1"/>
          <p:cNvSpPr/>
          <p:nvPr/>
        </p:nvSpPr>
        <p:spPr>
          <a:xfrm>
            <a:off x="1055520" y="2514600"/>
            <a:ext cx="44229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"/>
          <p:cNvSpPr/>
          <p:nvPr/>
        </p:nvSpPr>
        <p:spPr>
          <a:xfrm>
            <a:off x="6130800" y="2368440"/>
            <a:ext cx="2425680" cy="179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1590840" y="3049560"/>
            <a:ext cx="3887640" cy="7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1324080" y="3892680"/>
            <a:ext cx="38862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1519200" y="4467240"/>
            <a:ext cx="3886200" cy="7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1266840" y="5278320"/>
            <a:ext cx="421164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1-01-10T21:05:07Z</dcterms:modified>
  <cp:revision>3</cp:revision>
  <dc:subject/>
  <dc:title>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